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22BB-AC1D-432F-BD56-F215C332FE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A31B-D152-4526-BAF4-00CE6081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476D-CC31-4D11-AFF9-2ADF16A5CD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F7EC-AF35-4302-B344-CD1A396D7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0554-248D-4133-A62C-33FA09A9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2B30-49A9-47A7-87AC-71F6A4EF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DDF0-04BE-43DD-9A89-4FA012A35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6D13-B236-4E84-B8C7-2DD1B359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183D-F3D8-4CD3-8D30-68DE9AFF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FC39-2915-40A1-B087-900545B0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55B5-97B9-4B1D-B596-82CF2326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CAC4-EE2E-4AA8-8D68-3EAE4CA0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771E-0408-43A1-AF68-2D1C70A433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Arial"/>
              </a:rPr>
              <a:t>What the world eats.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1280" y="2492280"/>
            <a:ext cx="8208720" cy="41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 american photographer, Peter Menzel, travelled around the world in 2005 and took photos of what 30 different families in different countries typically e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 a normal wee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Food Nutrition Eating Health Diet &lt;span style='font-weight: bold'&gt;&lt;/span&gt;&lt;span style='font-weight: bold'&gt;&lt;/span&gt;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395280" y="404640"/>
            <a:ext cx="849780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468360" y="404640"/>
            <a:ext cx="8424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answers…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Italy           £16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Mexico       £1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Mongolia    £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China         £9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Germany   £3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Ecuador     £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Kuwait       £1.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59280" y="1628640"/>
            <a:ext cx="4043520" cy="54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 Bhutan      £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. England     £1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. Egypt          £4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. USA           £2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. Chad          63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3. Japan         £2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. Poland        £9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Product Details"/>
          <p:cNvPicPr/>
          <p:nvPr/>
        </p:nvPicPr>
        <p:blipFill>
          <a:blip r:embed="rId1"/>
          <a:stretch/>
        </p:blipFill>
        <p:spPr>
          <a:xfrm>
            <a:off x="468360" y="333360"/>
            <a:ext cx="4548240" cy="626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003640" y="620640"/>
            <a:ext cx="4392720" cy="81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Unicode MS"/>
              </a:rPr>
              <a:t>His photos are published in ‘The Hungry Planet’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Arial"/>
              </a:rPr>
              <a:t>Les pays dans les imag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Unicode MS"/>
              </a:rPr>
              <a:t>États-Un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Unicode MS"/>
              </a:rPr>
              <a:t>Mexiqu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Unicode MS"/>
              </a:rPr>
              <a:t>Équateu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Unicode MS"/>
              </a:rPr>
              <a:t>Angleter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Unicode MS"/>
              </a:rPr>
              <a:t>Polog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Unicode MS"/>
              </a:rPr>
              <a:t>Allemag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Unicode MS"/>
              </a:rPr>
              <a:t>Itali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Jap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Ch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Mongoli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Bout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Koweï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Égyp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Tcha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84360" y="404640"/>
          <a:ext cx="8135280" cy="6192720"/>
        </p:xfrm>
        <a:graphic>
          <a:graphicData uri="http://schemas.openxmlformats.org/drawingml/2006/table">
            <a:tbl>
              <a:tblPr/>
              <a:tblGrid>
                <a:gridCol w="2711880"/>
                <a:gridCol w="2711520"/>
                <a:gridCol w="2711880"/>
              </a:tblGrid>
              <a:tr h="12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250920" y="404640"/>
            <a:ext cx="856908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9:15:32Z</dcterms:created>
  <dc:creator>student</dc:creator>
  <dc:description/>
  <dc:language>en-US</dc:language>
  <cp:lastModifiedBy>student</cp:lastModifiedBy>
  <dcterms:modified xsi:type="dcterms:W3CDTF">2012-02-21T20:22:17Z</dcterms:modified>
  <cp:revision>30</cp:revision>
  <dc:subject/>
  <dc:title>What the world eats. </dc:title>
</cp:coreProperties>
</file>